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EF93-41AD-47EF-A0A3-871E1B8B4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80C6-735D-47D0-9D02-AF2BD86D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13C8-2A5D-4181-B59F-F9ED49101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5896-0E5D-44F0-A859-9E7164A64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9D5C-BB59-4C49-964C-E2246143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F185-9731-4912-AE10-43F9B1E2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3189-4B82-4DDD-A438-11948031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8C04-1B2A-4611-B746-85B69F9A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F6ED-1F0F-4C95-8ACE-6FA32123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E877-B2A5-49EF-B150-9E180906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CC27-A37E-4CDC-9520-A668C23D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E48C-5835-42C0-9626-68BC1672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86FD7C-D0CA-4EDE-8883-B59FB5FF7C56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A642F1-A0A5-49EF-A1CF-EA6D0648779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PESD #1</a:t>
            </a:r>
            <a:br>
              <a:rPr sz="4000"/>
            </a:b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New Teacher Orientation</a:t>
            </a:r>
            <a:br>
              <a:rPr sz="4000"/>
            </a:b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2008-09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7146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structional Technolog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3" descr="computer cartoon.gif"/>
          <p:cNvPicPr/>
          <p:nvPr/>
        </p:nvPicPr>
        <p:blipFill>
          <a:blip r:embed="rId2"/>
          <a:stretch/>
        </p:blipFill>
        <p:spPr>
          <a:xfrm>
            <a:off x="2514600" y="2158920"/>
            <a:ext cx="422280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Outlook Email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85732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irstname.lastname@phxelem.k12.az.u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utlook Webmai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Content Placeholder 3" descr="PESD Home Page.png"/>
          <p:cNvPicPr/>
          <p:nvPr/>
        </p:nvPicPr>
        <p:blipFill>
          <a:blip r:embed="rId2"/>
          <a:stretch/>
        </p:blipFill>
        <p:spPr>
          <a:xfrm>
            <a:off x="255600" y="1014480"/>
            <a:ext cx="8888400" cy="5614920"/>
          </a:xfrm>
          <a:prstGeom prst="rect">
            <a:avLst/>
          </a:prstGeom>
          <a:ln w="0">
            <a:noFill/>
          </a:ln>
        </p:spPr>
      </p:pic>
      <p:sp>
        <p:nvSpPr>
          <p:cNvPr id="69" name="Left Arrow 4"/>
          <p:cNvSpPr/>
          <p:nvPr/>
        </p:nvSpPr>
        <p:spPr>
          <a:xfrm>
            <a:off x="1905120" y="4305240"/>
            <a:ext cx="4724280" cy="723960"/>
          </a:xfrm>
          <a:prstGeom prst="leftArrow">
            <a:avLst>
              <a:gd name="adj1" fmla="val 50000"/>
              <a:gd name="adj2" fmla="val 49999"/>
            </a:avLst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6" descr="Employee Resources.png"/>
          <p:cNvPicPr/>
          <p:nvPr/>
        </p:nvPicPr>
        <p:blipFill>
          <a:blip r:embed="rId2"/>
          <a:stretch/>
        </p:blipFill>
        <p:spPr>
          <a:xfrm>
            <a:off x="353880" y="1014480"/>
            <a:ext cx="8790120" cy="51116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utlook Webmai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Up Arrow 7"/>
          <p:cNvSpPr/>
          <p:nvPr/>
        </p:nvSpPr>
        <p:spPr>
          <a:xfrm>
            <a:off x="4419720" y="3657600"/>
            <a:ext cx="1218960" cy="1935000"/>
          </a:xfrm>
          <a:prstGeom prst="upArrow">
            <a:avLst>
              <a:gd name="adj1" fmla="val 50000"/>
              <a:gd name="adj2" fmla="val 50003"/>
            </a:avLst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Content Placeholder 3" descr="webmail login1.png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4506840"/>
          </a:xfrm>
          <a:prstGeom prst="rect">
            <a:avLst/>
          </a:prstGeom>
          <a:ln w="0">
            <a:noFill/>
          </a:ln>
        </p:spPr>
      </p:pic>
      <p:sp>
        <p:nvSpPr>
          <p:cNvPr id="74" name="Right Arrow 4"/>
          <p:cNvSpPr/>
          <p:nvPr/>
        </p:nvSpPr>
        <p:spPr>
          <a:xfrm>
            <a:off x="2819520" y="3886200"/>
            <a:ext cx="3657600" cy="76212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ype your network username and passwor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Content Placeholder 3" descr="webmail login.png"/>
          <p:cNvPicPr/>
          <p:nvPr/>
        </p:nvPicPr>
        <p:blipFill>
          <a:blip r:embed="rId2"/>
          <a:stretch/>
        </p:blipFill>
        <p:spPr>
          <a:xfrm>
            <a:off x="122400" y="2133720"/>
            <a:ext cx="90216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ontent Placeholder 3" descr="outlook webmal.png"/>
          <p:cNvPicPr/>
          <p:nvPr/>
        </p:nvPicPr>
        <p:blipFill>
          <a:blip r:embed="rId2"/>
          <a:srcRect l="0" t="0" r="0" b="9836"/>
          <a:stretch/>
        </p:blipFill>
        <p:spPr>
          <a:xfrm>
            <a:off x="-23760" y="762120"/>
            <a:ext cx="916776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1e1c11"/>
                </a:solidFill>
                <a:latin typeface="Calibri"/>
              </a:rPr>
              <a:t>Introducing the Boo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Macintosh HD:Users:michael:Desktop:New Teachers:Introducing the Book.mov" descr="/Users/michael/Desktop/New Teachers/Introducing the Book.mov"/>
          <p:cNvPicPr/>
          <p:nvPr/>
        </p:nvPicPr>
        <p:blipFill>
          <a:blip r:embed="rId2"/>
          <a:stretch/>
        </p:blipFill>
        <p:spPr>
          <a:xfrm>
            <a:off x="1143000" y="1417680"/>
            <a:ext cx="689760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60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1e1c11"/>
                </a:solidFill>
                <a:latin typeface="Calibri"/>
              </a:rPr>
              <a:t>IT: Help teachers &amp; students use technology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Title 3"/>
          <p:cNvSpPr/>
          <p:nvPr/>
        </p:nvSpPr>
        <p:spPr>
          <a:xfrm>
            <a:off x="685800" y="32004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MIS: Fix technology, manage network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tructional Technolog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Content Placeholder 3" descr="jennie.JPG"/>
          <p:cNvPicPr/>
          <p:nvPr/>
        </p:nvPicPr>
        <p:blipFill>
          <a:blip r:embed="rId2"/>
          <a:stretch/>
        </p:blipFill>
        <p:spPr>
          <a:xfrm>
            <a:off x="1371600" y="1490760"/>
            <a:ext cx="2481120" cy="1861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linda.JPG"/>
          <p:cNvPicPr/>
          <p:nvPr/>
        </p:nvPicPr>
        <p:blipFill>
          <a:blip r:embed="rId3"/>
          <a:stretch/>
        </p:blipFill>
        <p:spPr>
          <a:xfrm>
            <a:off x="4800600" y="1490760"/>
            <a:ext cx="2481120" cy="1861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noreen.JPG"/>
          <p:cNvPicPr/>
          <p:nvPr/>
        </p:nvPicPr>
        <p:blipFill>
          <a:blip r:embed="rId4"/>
          <a:stretch/>
        </p:blipFill>
        <p:spPr>
          <a:xfrm>
            <a:off x="1371600" y="39625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ironman1.jpg"/>
          <p:cNvPicPr/>
          <p:nvPr/>
        </p:nvPicPr>
        <p:blipFill>
          <a:blip r:embed="rId5"/>
          <a:stretch/>
        </p:blipFill>
        <p:spPr>
          <a:xfrm>
            <a:off x="5029200" y="3962520"/>
            <a:ext cx="2006640" cy="20066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5130720" y="606276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1371600" y="33526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nn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1414440" y="60627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4843440" y="34383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Content Placeholder 3" descr="ctrl alt delete.png"/>
          <p:cNvPicPr/>
          <p:nvPr/>
        </p:nvPicPr>
        <p:blipFill>
          <a:blip r:embed="rId2"/>
          <a:stretch/>
        </p:blipFill>
        <p:spPr>
          <a:xfrm>
            <a:off x="272880" y="990720"/>
            <a:ext cx="841392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Content Placeholder 3" descr="Windows_XP_ctrl_alt_delete_logon.jpg"/>
          <p:cNvPicPr/>
          <p:nvPr/>
        </p:nvPicPr>
        <p:blipFill>
          <a:blip r:embed="rId2"/>
          <a:stretch/>
        </p:blipFill>
        <p:spPr>
          <a:xfrm>
            <a:off x="138240" y="685800"/>
            <a:ext cx="8548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Username: </a:t>
            </a: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firstname.lastnam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ssword: </a:t>
            </a: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phoenix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(then change your password after you click OK)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og on to: </a:t>
            </a: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PESD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not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administrator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Your password will expire in 12 days. Do you want to change your password now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Yes          N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ontent Placeholder 3" descr="change password.jpg"/>
          <p:cNvPicPr/>
          <p:nvPr/>
        </p:nvPicPr>
        <p:blipFill>
          <a:blip r:embed="rId2"/>
          <a:stretch/>
        </p:blipFill>
        <p:spPr>
          <a:xfrm>
            <a:off x="228600" y="228600"/>
            <a:ext cx="8643960" cy="61484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3124080" y="3200400"/>
            <a:ext cx="2819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TextBox 5" descr=""/>
          <p:cNvPicPr/>
          <p:nvPr/>
        </p:nvPicPr>
        <p:blipFill>
          <a:blip r:embed="rId3"/>
          <a:stretch/>
        </p:blipFill>
        <p:spPr>
          <a:xfrm>
            <a:off x="3121200" y="3193920"/>
            <a:ext cx="168264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7T16:05:40Z</dcterms:created>
  <dc:creator>Michael</dc:creator>
  <dc:description/>
  <dc:language>en-US</dc:language>
  <cp:lastModifiedBy>Michael</cp:lastModifiedBy>
  <dcterms:modified xsi:type="dcterms:W3CDTF">2008-07-17T17:52:57Z</dcterms:modified>
  <cp:revision>27</cp:revision>
  <dc:subject/>
  <dc:title>PESD #1 New Teacher Orientation 2008-09 </dc:title>
</cp:coreProperties>
</file>